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34.png" ContentType="image/png"/>
  <Override PartName="/ppt/media/image5.png" ContentType="image/png"/>
  <Override PartName="/ppt/media/image35.png" ContentType="image/png"/>
  <Override PartName="/ppt/media/image8.jpeg" ContentType="image/jpeg"/>
  <Override PartName="/ppt/media/image39.jpeg" ContentType="image/jpeg"/>
  <Override PartName="/ppt/media/image12.png" ContentType="image/png"/>
  <Override PartName="/ppt/media/image13.png" ContentType="image/png"/>
  <Override PartName="/ppt/media/image30.png" ContentType="image/png"/>
  <Override PartName="/ppt/media/image37.jpeg" ContentType="image/jpeg"/>
  <Override PartName="/ppt/media/image31.png" ContentType="image/png"/>
  <Override PartName="/ppt/media/image29.png" ContentType="image/png"/>
  <Override PartName="/ppt/media/image41.png" ContentType="image/png"/>
  <Override PartName="/ppt/media/image28.png" ContentType="image/png"/>
  <Override PartName="/ppt/media/image38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3B3D-0288-4EC4-949B-DF5FBC657D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AA38-2B2A-4C5A-A4D9-65FC3C74BE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459E-260B-42E0-9B14-12FD92E031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F28E-F6AB-4093-93CF-F64C27F8A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02D1-C315-4759-81CE-6DE2E88E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F5E9-B363-4899-810A-426E64F28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DFE4-A89C-4D59-91CA-D4B12A8EA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7650-A47A-4816-B520-8B6790191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9832-748E-4BCA-B8D4-545E9C64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2CF1-E45F-43B7-BC8F-22B87923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D29E-142D-4087-9C68-9FD7D24A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4DE3-0B61-4F75-B779-02BC4693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F15C-8AEF-471D-AA7C-345A33AD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A908E-8E1C-47B5-945D-8151B9D6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F3C9-6B45-4F34-B624-3E589EE8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8A6E-C4B2-4E80-83F3-CA339878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2C57-F13E-414E-8B75-D60B6457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43B3-E811-4856-AFFE-5408CBD0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138C-6246-4417-8012-6A0785E3A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F570A-20A0-4307-B7F3-F4CD7D1C6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A2613-AE06-4580-BEA9-CD503A7E5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30D64-1244-4CDC-A6E3-3E48DFFB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C2B68-C7B9-4F40-B21D-F974A442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5A3E7-3715-41BC-8002-E612F70D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86867-550C-41A0-B0E1-1E1A8EDA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9DE1-1AE5-4B48-B340-2C434872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08B2F-CE71-4EE9-947E-DDE8AD7E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D3301-75B1-4091-9D4E-9CB29091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CBE2C-5E1B-46FC-8ECC-E228923F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40210-092D-4324-956B-2887C95E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9347E-93D4-4700-9A3E-0943C2C8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864CD-6BD0-4F55-8A5B-BE59385A6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9F90C-E70B-463F-AA14-9E033B957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C7CE9-F563-471E-8679-33C8B5CC4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F0CC5-25AA-4FD5-8181-AFB38BC0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CB833-90DE-4E7C-98A6-2CD07CA1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2D4A-B690-4A4B-B2A8-8362131D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CD9D4-2DF8-4E34-8564-32EA29E3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71904-27C1-4192-B1D7-2D7F69FF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CC12D-9871-4BAA-BC75-6C6414B2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35B68-A8E1-4CE6-800D-D7C1F958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F590B-710C-4871-B111-018CD832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BBCBC-30DA-406A-8D13-843810F6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4BE18-8BCD-4BAE-88B7-9ED6B160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24972-B4E5-417F-A2D5-EFA2433A7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2B37B-C24B-4343-9405-2697B8641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841A-CCD9-4EF3-A783-CE36DDB7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8843-BF01-4668-8EC6-10A16D76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5D30-3397-4F6E-91D4-6D5BB0A8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10F0-9336-490D-A09F-F8264A60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4F24-2CD1-469E-8248-453B7F0E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BC83-1306-458B-8AD9-D307E64AB0E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7A2B-73DA-4D1B-9106-8D188DA41BE6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1372-C70A-4999-B0AD-383A4A8A2DC7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35DE-AAE7-4FB5-A7C5-66C0A0B28A4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9448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1"/>
          <p:cNvSpPr/>
          <p:nvPr/>
        </p:nvSpPr>
        <p:spPr>
          <a:xfrm>
            <a:off x="785880" y="42876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щие принципы пра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руководящие, принципиальные положения, исходные начала всего права в целом либо определенной его отрасли. В соответствии с законодательством ряда западных государств, при отсутствии конкретной нормы, прецедента или правового обычая, возможно при решении юридических дел ссылаться на принципы справедливости, доброй совести, социальной ориентации пра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5429160" y="357120"/>
            <a:ext cx="1714680" cy="26672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6572160" y="3357720"/>
            <a:ext cx="1895400" cy="24098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3"/>
          <a:stretch/>
        </p:blipFill>
        <p:spPr>
          <a:xfrm>
            <a:off x="785880" y="4071960"/>
            <a:ext cx="2028600" cy="22478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4"/>
          <a:stretch/>
        </p:blipFill>
        <p:spPr>
          <a:xfrm>
            <a:off x="3643200" y="4071960"/>
            <a:ext cx="17906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500040" y="285840"/>
            <a:ext cx="864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7. Нормативный правовой акт как источник пра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официальный письменный акт, изданный компетентным органом или принятый всеми гражданами государства в форме референдума, устанавливающий, изменяющий либо отменяющий нормы права. Это наиболее совершенный источник права, создающий основу для четкости, точности и стабильности правового регулирования, укрепления законности, доступности и обозримости правовых предписаний. Он облегчает надзор за исполнением юридических предписаний, их толкование, систематизацию, учет. Ему присуща письменная, строго документированная форма и особый, четко регламентированный процессуальный порядок принятия и опублик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357120" y="3643200"/>
            <a:ext cx="2428920" cy="2266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"/>
          <p:cNvPicPr/>
          <p:nvPr/>
        </p:nvPicPr>
        <p:blipFill>
          <a:blip r:embed="rId2"/>
          <a:stretch/>
        </p:blipFill>
        <p:spPr>
          <a:xfrm>
            <a:off x="6000840" y="3286080"/>
            <a:ext cx="2381040" cy="19242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"/>
          <p:cNvPicPr/>
          <p:nvPr/>
        </p:nvPicPr>
        <p:blipFill>
          <a:blip r:embed="rId3"/>
          <a:stretch/>
        </p:blipFill>
        <p:spPr>
          <a:xfrm>
            <a:off x="3286080" y="4643280"/>
            <a:ext cx="228600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1"/>
          <p:cNvSpPr/>
          <p:nvPr/>
        </p:nvSpPr>
        <p:spPr>
          <a:xfrm>
            <a:off x="928800" y="1000080"/>
            <a:ext cx="75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нормативные акты находятся между собой в строгой иерархической соподчиненности, от которой зависит юридическая сила каждого из них. Акты нижестоящих правотворческих органов должны соответствовать и не противоречить актам вышестоящих органо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Нормативные акты классифицируются по их юридической силе, определяемой компетенцией и положением издавшего их органа в механизме государства, а также характером самих а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личаютс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титуция - основной закон государств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титуционные закон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кновенные закон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законные акты (указы, постановления, инструкции, декреты, ордонансы и др.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D:\Documents and Settings\Валерий\Рабочий стол\ЮрСила Актов Права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-109440" y="-139680"/>
            <a:ext cx="9442440" cy="1060560"/>
          </a:xfrm>
          <a:prstGeom prst="rect">
            <a:avLst/>
          </a:prstGeom>
          <a:ln w="0">
            <a:noFill/>
          </a:ln>
        </p:spPr>
      </p:pic>
      <p:pic>
        <p:nvPicPr>
          <p:cNvPr id="244" name="Таблица 5" descr=""/>
          <p:cNvPicPr/>
          <p:nvPr/>
        </p:nvPicPr>
        <p:blipFill>
          <a:blip r:embed="rId2"/>
          <a:stretch/>
        </p:blipFill>
        <p:spPr>
          <a:xfrm>
            <a:off x="-73080" y="835200"/>
            <a:ext cx="9180720" cy="58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3" descr=""/>
          <p:cNvPicPr/>
          <p:nvPr/>
        </p:nvPicPr>
        <p:blipFill>
          <a:blip r:embed="rId1"/>
          <a:stretch/>
        </p:blipFill>
        <p:spPr>
          <a:xfrm>
            <a:off x="444600" y="274680"/>
            <a:ext cx="8339040" cy="58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Нормативные акты разделяются на виды в зависимости от юридической силы, на законы и подзаконные акты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4040280" cy="647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Закон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43280" y="1557000"/>
            <a:ext cx="404208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4617b"/>
                </a:solidFill>
                <a:latin typeface="Constantia"/>
              </a:rPr>
              <a:t>Подзаконные нормативные акты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28760" y="2492280"/>
            <a:ext cx="403992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 fontScale="96000"/>
          </a:bodyPr>
          <a:p>
            <a:pPr marL="261720" indent="-2617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Закон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 нормативный акт, принятый в особом порядке высшим представительным органом законодательной власти либо непосредственным волеизъявлением населения путем референдума и регулирующий наиболее важные и устойчивые общественные отношения. Законы составляют основу правовой системы государства, ее центральную часть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787640" y="2349000"/>
            <a:ext cx="4041720" cy="38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 fontScale="98000"/>
          </a:bodyPr>
          <a:p>
            <a:pPr marL="267120" indent="-2671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nstantia"/>
              </a:rPr>
              <a:t>Подзаконные нормативные акты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- это принятые компетентным органом и устанавливающие нормы права юридические акты, которые основаны на законе и не противоречат ему. Вся система таких актов строится на строгой их соподчиненности между собой. Их юридическая сила зависит от положения соответствующего органа, издающего подзаконный нормативный акт, в общей иерархической системе органов государств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Схема 27" descr=""/>
          <p:cNvPicPr/>
          <p:nvPr/>
        </p:nvPicPr>
        <p:blipFill>
          <a:blip r:embed="rId1"/>
          <a:stretch/>
        </p:blipFill>
        <p:spPr>
          <a:xfrm>
            <a:off x="176040" y="1231920"/>
            <a:ext cx="8785440" cy="5187960"/>
          </a:xfrm>
          <a:prstGeom prst="rect">
            <a:avLst/>
          </a:prstGeom>
          <a:ln w="0">
            <a:noFill/>
          </a:ln>
        </p:spPr>
      </p:pic>
      <p:sp>
        <p:nvSpPr>
          <p:cNvPr id="252" name="Полилиния 3"/>
          <p:cNvSpPr/>
          <p:nvPr/>
        </p:nvSpPr>
        <p:spPr>
          <a:xfrm rot="2991600">
            <a:off x="5276520" y="1544400"/>
            <a:ext cx="2536920" cy="565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1008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онные зак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авая фигурная скобка 1"/>
          <p:cNvSpPr/>
          <p:nvPr/>
        </p:nvSpPr>
        <p:spPr>
          <a:xfrm rot="19174200">
            <a:off x="5738400" y="1474560"/>
            <a:ext cx="552600" cy="1581120"/>
          </a:xfrm>
          <a:custGeom>
            <a:avLst/>
            <a:gdLst>
              <a:gd name="textAreaLeft" fmla="*/ 0 w 552600"/>
              <a:gd name="textAreaRight" fmla="*/ 199440 w 552600"/>
              <a:gd name="textAreaTop" fmla="*/ 14400 h 1581120"/>
              <a:gd name="textAreaBottom" fmla="*/ 1566720 h 158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5"/>
                  <a:pt x="10800" y="629"/>
                </a:cubicBezTo>
                <a:lnTo>
                  <a:pt x="10800" y="10008"/>
                </a:lnTo>
                <a:cubicBezTo>
                  <a:pt x="10800" y="10323"/>
                  <a:pt x="16200" y="10637"/>
                  <a:pt x="21600" y="10637"/>
                </a:cubicBezTo>
                <a:cubicBezTo>
                  <a:pt x="16200" y="10637"/>
                  <a:pt x="10800" y="10952"/>
                  <a:pt x="10800" y="11266"/>
                </a:cubicBezTo>
                <a:lnTo>
                  <a:pt x="10800" y="20971"/>
                </a:lnTo>
                <a:cubicBezTo>
                  <a:pt x="10800" y="2128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8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авая фигурная скобка 6"/>
          <p:cNvSpPr/>
          <p:nvPr/>
        </p:nvSpPr>
        <p:spPr>
          <a:xfrm rot="13333200">
            <a:off x="782280" y="3841200"/>
            <a:ext cx="552600" cy="1579320"/>
          </a:xfrm>
          <a:custGeom>
            <a:avLst/>
            <a:gdLst>
              <a:gd name="textAreaLeft" fmla="*/ 0 w 552600"/>
              <a:gd name="textAreaRight" fmla="*/ 199440 w 552600"/>
              <a:gd name="textAreaTop" fmla="*/ 14400 h 1579320"/>
              <a:gd name="textAreaBottom" fmla="*/ 1564920 h 157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5"/>
                  <a:pt x="10800" y="630"/>
                </a:cubicBezTo>
                <a:lnTo>
                  <a:pt x="10800" y="10007"/>
                </a:lnTo>
                <a:cubicBezTo>
                  <a:pt x="10800" y="10322"/>
                  <a:pt x="16200" y="10637"/>
                  <a:pt x="21600" y="10637"/>
                </a:cubicBezTo>
                <a:cubicBezTo>
                  <a:pt x="16200" y="10637"/>
                  <a:pt x="10800" y="10952"/>
                  <a:pt x="10800" y="11267"/>
                </a:cubicBezTo>
                <a:lnTo>
                  <a:pt x="10800" y="20970"/>
                </a:lnTo>
                <a:cubicBezTo>
                  <a:pt x="10800" y="21285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76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олилиния 7"/>
          <p:cNvSpPr/>
          <p:nvPr/>
        </p:nvSpPr>
        <p:spPr>
          <a:xfrm rot="18894000">
            <a:off x="-118440" y="3586680"/>
            <a:ext cx="2354400" cy="650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1008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ные (простые) зак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Заголовок 2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Виды закон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2"/>
          <p:cNvSpPr/>
          <p:nvPr/>
        </p:nvSpPr>
        <p:spPr>
          <a:xfrm>
            <a:off x="12600" y="1700280"/>
            <a:ext cx="9036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Конституция РФ – основной за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ладает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высшей юридической сило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системе всех нормативных актов стра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еет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прямое действ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вляется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базо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сего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конодатель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Рисунок 3" descr=""/>
          <p:cNvPicPr/>
          <p:nvPr/>
        </p:nvPicPr>
        <p:blipFill>
          <a:blip r:embed="rId1"/>
          <a:srcRect l="0" t="0" r="0" b="20516"/>
          <a:stretch/>
        </p:blipFill>
        <p:spPr>
          <a:xfrm>
            <a:off x="5219640" y="3664080"/>
            <a:ext cx="3773520" cy="3170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Конституция Р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2"/>
          <p:cNvSpPr/>
          <p:nvPr/>
        </p:nvSpPr>
        <p:spPr>
          <a:xfrm>
            <a:off x="108000" y="1112760"/>
            <a:ext cx="9036000" cy="52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 регулируют вопросы особой важност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КЗ - это законы, принятие которых предусмотрено в самом тексте Конституции и которые вносят изменения в Конституц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Verdana"/>
              </a:rPr>
              <a:t>Особен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) обладают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олее высокой юридической силой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по сравнению с обыкновенными закон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) принимаю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особом порядке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квалифицированным большинством, т.е. заранее установленным повышенным кворумом при голосова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В России, например, за принятие ФКЗ должны проголосовать не менее 2/3 депутатов Государственной Думы и 3/4 членов Совета Федерации от их списочного состава. В то время как для принятия обыкновенного закона достаточно простое большинство голосов в обеих палатах (50% плюс один голос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) Глава государства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е обладает правом вето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отношении ФКЗ, а должен по истечении определенного срока (в России - в течение 14 дней) подписать ФКЗ и обнародовать 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964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Федеральные конституционные законы (ФКЗ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одержание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нятие и виды источников прав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нятие нормативного акт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иды нормативных акто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йствия нормативных актов во времени, пространстве и по кругу лиц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360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одзаконные ак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79280" y="1197000"/>
            <a:ext cx="6337440" cy="49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одзаконные акты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указы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становления, приказы, инструкции…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обладают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еньшей юридической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ило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чем закон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издаются на основани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 во исполнение законов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х принимают 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органы исполнительной власти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и должностные лица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езидент РФ (указы, распоряжения)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авительство Российской Федерации (постановления, распоряжения)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инистерства (разъяснения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 другие органы власти в пределах своей компетенци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4" name="Picture 7" descr="http://www.ilinskiy.ru/awards/ord-zaslugi-uk.jpg"/>
          <p:cNvPicPr/>
          <p:nvPr/>
        </p:nvPicPr>
        <p:blipFill>
          <a:blip r:embed="rId1"/>
          <a:stretch/>
        </p:blipFill>
        <p:spPr>
          <a:xfrm>
            <a:off x="6524640" y="3144960"/>
            <a:ext cx="2619360" cy="3713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Действие НПА во времен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08000" y="1484280"/>
            <a:ext cx="9036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чинается  с момента вступления его в силу (дата или момент опубликования), а прекращается с момента утраты им юридической силы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ормативные правовые акты прекращают действие (утрачивают силу) в результате следующих трех обстоятельств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1) </a:t>
            </a:r>
            <a:r>
              <a:rPr b="1" i="1" lang="ru-RU" sz="2000" spc="-1" strike="noStrike">
                <a:solidFill>
                  <a:srgbClr val="c00000"/>
                </a:solidFill>
                <a:latin typeface="Constantia"/>
              </a:rPr>
              <a:t>по истечении срока действия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на который был принят акт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2) в результате </a:t>
            </a:r>
            <a:r>
              <a:rPr b="1" i="1" lang="ru-RU" sz="2000" spc="-1" strike="noStrike">
                <a:solidFill>
                  <a:srgbClr val="c00000"/>
                </a:solidFill>
                <a:latin typeface="Constantia"/>
              </a:rPr>
              <a:t>прямой отмен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(официально объявлен отмененным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3) в результате </a:t>
            </a:r>
            <a:r>
              <a:rPr b="1" i="1" lang="ru-RU" sz="2000" spc="-1" strike="noStrike">
                <a:solidFill>
                  <a:srgbClr val="c00000"/>
                </a:solidFill>
                <a:latin typeface="Constantia"/>
              </a:rPr>
              <a:t>косвенной отмены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(принятие нового НПА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7" name="Рисунок 5" descr=""/>
          <p:cNvPicPr/>
          <p:nvPr/>
        </p:nvPicPr>
        <p:blipFill>
          <a:blip r:embed="rId1"/>
          <a:srcRect l="14535" t="0" r="13015" b="0"/>
          <a:stretch/>
        </p:blipFill>
        <p:spPr>
          <a:xfrm>
            <a:off x="6156360" y="3887640"/>
            <a:ext cx="2835360" cy="2936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7640" y="174600"/>
            <a:ext cx="43196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Действие НПА </a:t>
            </a: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в пространств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4560" y="1483920"/>
            <a:ext cx="9109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Verdana"/>
                <a:ea typeface="Verdana"/>
              </a:rPr>
              <a:t>Определяется  территорией</a:t>
            </a:r>
            <a:r>
              <a:rPr b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,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на которую распространяются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властные полномочия органа, издавшего акт </a:t>
            </a:r>
            <a:br>
              <a:rPr sz="2000"/>
            </a:br>
            <a:r>
              <a:rPr b="1" lang="ru-RU" sz="1800" spc="-1" strike="noStrike" u="sng">
                <a:solidFill>
                  <a:srgbClr val="c00000"/>
                </a:solidFill>
                <a:uFillTx/>
                <a:latin typeface="Verdana"/>
                <a:ea typeface="Verdana"/>
              </a:rPr>
              <a:t>(с учетом принципа экстерриториальности)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1</a:t>
            </a:r>
            <a:r>
              <a:rPr b="1" lang="ru-RU" sz="1800" spc="-1" strike="noStrike">
                <a:solidFill>
                  <a:srgbClr val="002060"/>
                </a:solidFill>
                <a:latin typeface="Verdana"/>
                <a:ea typeface="Verdana"/>
              </a:rPr>
              <a:t>.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На </a:t>
            </a:r>
            <a:r>
              <a:rPr b="0" i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всю территорию России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распространяется действие Конституции РФ, федеральных НП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2.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На </a:t>
            </a:r>
            <a:r>
              <a:rPr b="0" i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территорию субъекта РФ -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действие актов органов государственной власти субъекта РФ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3.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На строго определенной </a:t>
            </a:r>
            <a:r>
              <a:rPr b="0" i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ограниченной части территории </a:t>
            </a:r>
            <a:r>
              <a:rPr b="1" i="1" lang="ru-RU" sz="1200" spc="-1" strike="noStrike">
                <a:solidFill>
                  <a:srgbClr val="002060"/>
                </a:solidFill>
                <a:latin typeface="Verdana"/>
                <a:ea typeface="Verdana"/>
              </a:rPr>
              <a:t>(например, при введении режима чрезвычайного положения при наводнении региона)</a:t>
            </a:r>
            <a:r>
              <a:rPr b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4.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Локальные акты, которые действуют на ограниченной территории предприятия, учреждения, организаци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0" name="Picture 5" descr="http://krepoteka.ru/wp-content/uploads/2015/04/gubernatorskaya-vyplata_5-300x164.png"/>
          <p:cNvPicPr/>
          <p:nvPr/>
        </p:nvPicPr>
        <p:blipFill>
          <a:blip r:embed="rId1"/>
          <a:stretch/>
        </p:blipFill>
        <p:spPr>
          <a:xfrm>
            <a:off x="5003640" y="-42840"/>
            <a:ext cx="413892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3"/>
          <p:cNvSpPr/>
          <p:nvPr/>
        </p:nvSpPr>
        <p:spPr>
          <a:xfrm>
            <a:off x="179280" y="1666800"/>
            <a:ext cx="828036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  <a:ea typeface="Arial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Распространяется на всех граждан РФ, а так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иностранцев, лиц без гражданства (апатридов)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и лиц с двойным гражданством (бипатрид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  <a:ea typeface="Arial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тдельные НПА распространяются только на конкретные категории граждан (например, на судей или военнослужащих, пенсионеров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  <a:ea typeface="Arial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Сотрудники дипломатических, консульских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и иных зарубежных госучрежд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ользуются дипломатическим иммуните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Действие НПА по кругу лиц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3" name="Рисунок 2" descr=""/>
          <p:cNvPicPr/>
          <p:nvPr/>
        </p:nvPicPr>
        <p:blipFill>
          <a:blip r:embed="rId1"/>
          <a:stretch/>
        </p:blipFill>
        <p:spPr>
          <a:xfrm>
            <a:off x="7169040" y="4292640"/>
            <a:ext cx="197496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ик 2"/>
          <p:cNvSpPr/>
          <p:nvPr/>
        </p:nvSpPr>
        <p:spPr>
          <a:xfrm>
            <a:off x="41400" y="1447920"/>
            <a:ext cx="9055080" cy="42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НПА действуют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только на «будущие» правоотнош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 и не распространяются на отношения, возникшие до момента их вступления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 силу.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  <a:ea typeface="Arial"/>
              </a:rPr>
              <a:t>Но есть исключения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Закону может быть придана обратная сила! То есть его нормы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Verdana"/>
                <a:ea typeface="Arial"/>
              </a:rPr>
              <a:t>могут быть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распространены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на отношения, возникшие до его приня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Обратная сила придается НПА в случая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когд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законодатель принимает такое 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(отношения, которые вообще не был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урегулированы ранее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2) когда акты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отменяют или смягчают </a:t>
            </a:r>
            <a:br>
              <a:rPr sz="20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наказание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по сравнению с предшествующим законом, т.е. создают более льготный реж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52927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Обратная сила НП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§  2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L15_p2_1"/>
          <p:cNvPicPr/>
          <p:nvPr/>
        </p:nvPicPr>
        <p:blipFill>
          <a:blip r:embed="rId1"/>
          <a:stretch/>
        </p:blipFill>
        <p:spPr>
          <a:xfrm>
            <a:off x="539640" y="3521160"/>
            <a:ext cx="1963800" cy="279396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06" name="Picture 5" descr="L15_p2_2"/>
          <p:cNvPicPr/>
          <p:nvPr/>
        </p:nvPicPr>
        <p:blipFill>
          <a:blip r:embed="rId2"/>
          <a:stretch/>
        </p:blipFill>
        <p:spPr>
          <a:xfrm>
            <a:off x="3510000" y="3506760"/>
            <a:ext cx="2211480" cy="280836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07" name="Picture 6" descr="L15_p2_3"/>
          <p:cNvPicPr/>
          <p:nvPr/>
        </p:nvPicPr>
        <p:blipFill>
          <a:blip r:embed="rId3"/>
          <a:stretch/>
        </p:blipFill>
        <p:spPr>
          <a:xfrm>
            <a:off x="6732720" y="3521160"/>
            <a:ext cx="1871640" cy="280836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08" name="Заголовок 1" descr=""/>
          <p:cNvPicPr/>
          <p:nvPr/>
        </p:nvPicPr>
        <p:blipFill>
          <a:blip r:embed="rId4"/>
          <a:stretch/>
        </p:blipFill>
        <p:spPr>
          <a:xfrm>
            <a:off x="298440" y="182520"/>
            <a:ext cx="8169120" cy="1000080"/>
          </a:xfrm>
          <a:prstGeom prst="rect">
            <a:avLst/>
          </a:prstGeom>
          <a:ln w="0">
            <a:noFill/>
          </a:ln>
        </p:spPr>
      </p:pic>
      <p:sp>
        <p:nvSpPr>
          <p:cNvPr id="209" name="Прямоугольник 2"/>
          <p:cNvSpPr/>
          <p:nvPr/>
        </p:nvSpPr>
        <p:spPr>
          <a:xfrm>
            <a:off x="250920" y="2276640"/>
            <a:ext cx="4032000" cy="108036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ормы (источники) права – официальные способы выражения и закрепления правовых нор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3"/>
          <p:cNvSpPr/>
          <p:nvPr/>
        </p:nvSpPr>
        <p:spPr>
          <a:xfrm>
            <a:off x="5219640" y="2305080"/>
            <a:ext cx="3767040" cy="119124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сточники права - факторы, порождающие появление и действие 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108000" y="1484280"/>
            <a:ext cx="90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уществуют два подхода к понятию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«источник права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4"/>
          <p:cNvSpPr/>
          <p:nvPr/>
        </p:nvSpPr>
        <p:spPr>
          <a:xfrm>
            <a:off x="4714920" y="1143000"/>
            <a:ext cx="4286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чники права - это действующий в государстве официальный документ, устанавливающий или санкционирующий нормы права; внешние формы выражения правотворческой деятельности государства, с помощью которой воля законодателя становится обязательной для испол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142920" y="2071800"/>
            <a:ext cx="45720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1"/>
          <p:cNvSpPr/>
          <p:nvPr/>
        </p:nvSpPr>
        <p:spPr>
          <a:xfrm>
            <a:off x="357120" y="214200"/>
            <a:ext cx="7715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истории развития права различают несколько видов источников права, причем их значение в каждом типе права неодинаков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1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авовой обыча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правило поведения, которое сложилось исторически в силу постоянной повторяемости в течение длительного времени и санкционировано государством в качестве общеобязательного правила. В период становления права преобладающее значение имел правовой обычай. Обычное право было основным источником права на ранних этапах развития рабовладельческого и феодального права. В современных государствах правовой обычай применяется довольно редк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5929200" y="3357720"/>
            <a:ext cx="2495520" cy="28573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785880" y="3429000"/>
            <a:ext cx="23432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Прямоугольник 1"/>
          <p:cNvSpPr/>
          <p:nvPr/>
        </p:nvSpPr>
        <p:spPr>
          <a:xfrm>
            <a:off x="500040" y="42876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удебный прецеден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решение суда (обычно это высшая судебная инстанция в стране) по конкретному делу, которое затем становится образцом, обязательным правилом для решения аналогичных дел в будущем. В настоящее время такой источник широко используется в англосаксонских странах (например "общее право" Англии). Прецедентное право чрезвычайно громоздко, запутанно и противоречиво, позволяет суду осуществлять правотворческие функции как в случае отсутствия соответствующего закона, так и при его налич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6215040" y="571680"/>
            <a:ext cx="1943280" cy="20714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"/>
          <p:cNvPicPr/>
          <p:nvPr/>
        </p:nvPicPr>
        <p:blipFill>
          <a:blip r:embed="rId2"/>
          <a:stretch/>
        </p:blipFill>
        <p:spPr>
          <a:xfrm>
            <a:off x="5500800" y="3643200"/>
            <a:ext cx="30718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1"/>
          <p:cNvSpPr/>
          <p:nvPr/>
        </p:nvSpPr>
        <p:spPr>
          <a:xfrm>
            <a:off x="571680" y="35712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ормативный догов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соглашение между различными субъектами права, в которых содержатся нормы права. Он является одним из основных источников международного права. В ряде случаев нормативный договор используется во внутригосударственном прав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6143760" y="357120"/>
            <a:ext cx="2085840" cy="15620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4500720" y="2857680"/>
            <a:ext cx="4381200" cy="3152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"/>
          <p:cNvPicPr/>
          <p:nvPr/>
        </p:nvPicPr>
        <p:blipFill>
          <a:blip r:embed="rId3"/>
          <a:stretch/>
        </p:blipFill>
        <p:spPr>
          <a:xfrm>
            <a:off x="928800" y="3571920"/>
            <a:ext cx="30718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1"/>
          <p:cNvSpPr/>
          <p:nvPr/>
        </p:nvSpPr>
        <p:spPr>
          <a:xfrm>
            <a:off x="428760" y="28584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елигиозные текс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священные книги и сборники, которые непосредственно применяются в судебной и иной юридической практике. Этот источник применяется, в первую очередь, в мусульманском праве (Коран - собрание поучений и заповедей Аллаха, Сунна - жизнеописание пророка Мухаммед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785880" y="3429000"/>
            <a:ext cx="3809880" cy="2590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"/>
          <p:cNvPicPr/>
          <p:nvPr/>
        </p:nvPicPr>
        <p:blipFill>
          <a:blip r:embed="rId2"/>
          <a:stretch/>
        </p:blipFill>
        <p:spPr>
          <a:xfrm>
            <a:off x="5429160" y="571680"/>
            <a:ext cx="3429000" cy="18572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"/>
          <p:cNvPicPr/>
          <p:nvPr/>
        </p:nvPicPr>
        <p:blipFill>
          <a:blip r:embed="rId3"/>
          <a:stretch/>
        </p:blipFill>
        <p:spPr>
          <a:xfrm>
            <a:off x="5857920" y="2643120"/>
            <a:ext cx="24861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1"/>
          <p:cNvSpPr/>
          <p:nvPr/>
        </p:nvSpPr>
        <p:spPr>
          <a:xfrm>
            <a:off x="4286160" y="35712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октринальные текс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мнения, идеи и доктрины выдающихся ученых-юристов. В римском праве работы некоторых известных юристов (например Ульпиана) зачастую составляли основу решения юридических дел. Судьи в англоязычных странах нередко основывают свои решения на трудах английских ученых. В мусульманских странах созданные в XII-XIV в. труды арабских юристов, знатоков ислама (иджма) имеют официальное юридическое 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571680" y="857160"/>
            <a:ext cx="3238200" cy="2428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2"/>
          <a:stretch/>
        </p:blipFill>
        <p:spPr>
          <a:xfrm>
            <a:off x="1071720" y="4143240"/>
            <a:ext cx="2857320" cy="1905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"/>
          <p:cNvPicPr/>
          <p:nvPr/>
        </p:nvPicPr>
        <p:blipFill>
          <a:blip r:embed="rId3"/>
          <a:stretch/>
        </p:blipFill>
        <p:spPr>
          <a:xfrm>
            <a:off x="5143680" y="4286160"/>
            <a:ext cx="15285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31T17:15:10Z</dcterms:created>
  <dc:creator>UserXP</dc:creator>
  <dc:description/>
  <dc:language>en-US</dc:language>
  <cp:lastModifiedBy>ПК</cp:lastModifiedBy>
  <dcterms:modified xsi:type="dcterms:W3CDTF">2020-04-18T11:36:21Z</dcterms:modified>
  <cp:revision>14</cp:revision>
  <dc:subject/>
  <dc:title>Источники права</dc:title>
</cp:coreProperties>
</file>